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57D-7527-4201-B280-27A84430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78A-9C9C-410B-B20A-FAD0B3A1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CBD-9EF4-4961-8E21-23EEEB98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E39-263C-4875-B4A6-349DF45D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341-05DB-432A-B382-1F85330E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3F4-281A-4A6D-A374-5B3E84CF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607-96A2-4D14-91A6-A6969E92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207-E251-4744-8EEE-469CAE02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A20-821A-49BC-9BE1-949C6E40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3E6-FD86-4BD0-BD73-5F91F931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57D-DADB-4825-9E8F-FAD50889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958-08E9-497B-9D02-FC19A7CA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18DC-9267-4D27-AE45-5357C90598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Rise of Dictators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did totalitarian dictators gain power in Europe during the 1920s and 1930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Europe after WW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NFER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: What do you think was going on in Europe after WWI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CALL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: Which country had it the worst? Why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otalitarian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: a single party and it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 leader have total control on all aspects of people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 liv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Dictator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: leader who controls the nation by fo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ascism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: a political philosophy in which total power is given to a dictator and individual freedoms are deni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ictators of WWI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Josef Stalin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Soviet Union – commun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enito Mussolini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Italy – Fasc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olf Hitler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Germany – Nazi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ideki Tojo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Japan – military dictato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actors that led to the rise of dictat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olitical instability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dictator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ok advantage of uncertainty in their coun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Germany’s high war debt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om reparations after WW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orldwide depression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 just the U.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assive unemployment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oughout Euro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ascism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other totalitarian governments took o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igh inflation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s were so high people couldn’t afford to buy th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olitical and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economic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ditions in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Europe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llowing WWI led to the rise of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ascism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and to WWII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rise of fascism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reaten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peace in Europe and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si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ascis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dictators include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itler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Mussolini and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ojo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ctators led the countries that became known as the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xis Powers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6:06:00Z</dcterms:created>
  <dc:creator>LATHOMPS</dc:creator>
  <dc:description/>
  <dc:language>en-US</dc:language>
  <cp:lastModifiedBy>Vickie J. Dean</cp:lastModifiedBy>
  <dcterms:modified xsi:type="dcterms:W3CDTF">2015-03-16T19:14:47Z</dcterms:modified>
  <cp:revision>4</cp:revision>
  <dc:subject/>
  <dc:title>Rise of Dictators</dc:title>
</cp:coreProperties>
</file>